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B86-662D-4126-A319-84DBBC67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5F9-7E16-42E0-AAFC-ED1E128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666-D815-4062-A13B-AFE7F9AD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710-7414-4AAE-AA3E-65BF39E3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234-33BB-47FA-BD77-1C2C98A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666-B92E-4947-8CFE-A2E373A7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1A3-4DEF-4A92-BCE0-AA4C2BB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41E-5E08-4369-A285-329647C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2A3-E474-4A1A-977F-93865560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C6F-F98A-4CBF-B322-B5BCE37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EAA-7AF1-4B4D-9DB9-3447099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7F7-15D3-4E25-BB81-4B18D8D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73045-886B-43BF-8A96-D1040AFDD198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"/>
          <p:cNvGrpSpPr/>
          <p:nvPr/>
        </p:nvGrpSpPr>
        <p:grpSpPr>
          <a:xfrm>
            <a:off x="96840" y="3495600"/>
            <a:ext cx="2867040" cy="208080"/>
            <a:chOff x="96840" y="3495600"/>
            <a:chExt cx="2867040" cy="208080"/>
          </a:xfrm>
        </p:grpSpPr>
        <p:grpSp>
          <p:nvGrpSpPr>
            <p:cNvPr id="44" name="Group 2"/>
            <p:cNvGrpSpPr/>
            <p:nvPr/>
          </p:nvGrpSpPr>
          <p:grpSpPr>
            <a:xfrm>
              <a:off x="96840" y="3495600"/>
              <a:ext cx="2232000" cy="208080"/>
              <a:chOff x="96840" y="3495600"/>
              <a:chExt cx="2232000" cy="208080"/>
            </a:xfrm>
          </p:grpSpPr>
          <p:pic>
            <p:nvPicPr>
              <p:cNvPr id="45" name="Picture 5" descr=""/>
              <p:cNvPicPr/>
              <p:nvPr/>
            </p:nvPicPr>
            <p:blipFill>
              <a:blip r:embed="rId2"/>
              <a:srcRect l="0" t="0" r="73827" b="0"/>
              <a:stretch/>
            </p:blipFill>
            <p:spPr>
              <a:xfrm>
                <a:off x="96840" y="3495600"/>
                <a:ext cx="704160" cy="20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6" descr=""/>
              <p:cNvPicPr/>
              <p:nvPr/>
            </p:nvPicPr>
            <p:blipFill>
              <a:blip r:embed="rId3"/>
              <a:srcRect l="52317" t="0" r="18459" b="0"/>
              <a:stretch/>
            </p:blipFill>
            <p:spPr>
              <a:xfrm>
                <a:off x="1542600" y="3495600"/>
                <a:ext cx="786240" cy="20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897840" y="3501000"/>
                <a:ext cx="606600" cy="19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Imagen 6" descr=""/>
            <p:cNvPicPr/>
            <p:nvPr/>
          </p:nvPicPr>
          <p:blipFill>
            <a:blip r:embed="rId5"/>
            <a:stretch/>
          </p:blipFill>
          <p:spPr>
            <a:xfrm>
              <a:off x="2268000" y="3567600"/>
              <a:ext cx="695880" cy="6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1-27T15:07:57Z</dcterms:modified>
  <cp:revision>4</cp:revision>
  <dc:subject/>
  <dc:title>PowerPoint Presentation</dc:title>
</cp:coreProperties>
</file>